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5EE-32B5-4748-86DF-978FFB9C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32B-918A-4D00-B2A1-6CBE14F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12B-5B09-43B4-8D2B-B6C6AF04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243-4055-4EA3-93AE-9D10BE38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1CF-99A8-476A-88E8-B17E12B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01C-6EAF-444E-9BE4-F33DBD0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A0BD-1E71-4F4B-9871-823B326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97D5-04D0-4F11-AEE6-7C58A200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6A76-1C27-4CF7-885D-B50E286B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5BF3-BBA9-4CF0-A43C-862175D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8BE-FDF6-447F-AAC6-47B77B5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F0F-229E-48B3-9A58-009299B1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962E-49BD-4331-9C35-78D2A71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2B51-8C01-4318-B748-B2287B6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8D12-4FD0-484D-9976-1A2C78D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09A4-0FF2-49B6-8465-23EBA224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80FE-3B08-4FDF-9AD5-7A66133B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19E-3FCC-416B-AB77-880ABE8B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5F4-FA10-4C39-A286-A682A75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D65-7F67-4523-AE2E-1058E66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B17-11E8-419A-8116-E6C36D0E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BFC-FC6B-4122-9CA7-1FFD409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0B9-AA71-473C-93D9-B41B954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520-DED8-46A0-9EA3-6AD2519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020-89A2-42EC-8142-F934339A0D97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02b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pic>
        <p:nvPicPr>
          <p:cNvPr id="5" name="gif2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SQL Server 2000</a:t>
            </a: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数据库简明教程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" name="gif318" descr="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699160" y="-3816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隶书"/>
                <a:ea typeface="隶书"/>
              </a:rPr>
              <a:t>主编：李存斌 （教授）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6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9925-D2C3-4911-950D-5BACF56A2FF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0070;&#21517;&#12289;&#20869;&#23481;&#31616;&#20171;&#21644;&#21069;&#35328;.pp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31532;8&#31456;%20%20%20%20SQL%20Server&#25968;&#25454;&#22797;&#21046;.ppt#2. 8.1   &#22797;&#21046;&#27010;&#36848;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2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3" Type="http://schemas.openxmlformats.org/officeDocument/2006/relationships/hyperlink" Target="file:///&#31532;1&#31456;%20%20%20SQL%20Server%20&#20851;&#31995;&#25968;&#25454;&#24211;&#31616;&#20171;.ppt#3. 1.1   SQL Server &#29305;&#28857;" TargetMode="External"/><Relationship Id="rId4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5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6" Type="http://schemas.openxmlformats.org/officeDocument/2006/relationships/hyperlink" Target="file:///&#31532;1&#31456;%20%20%20SQL%20Server%20&#20851;&#31995;&#25968;&#25454;&#24211;&#31616;&#20171;.ppt#6. 1.2   SQL Server&#30340;&#23433;&#35013;&#21644;&#37197;&#32622;" TargetMode="External"/><Relationship Id="rId7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8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9" Type="http://schemas.openxmlformats.org/officeDocument/2006/relationships/hyperlink" Target="file:///&#31532;1&#31456;%20%20%20SQL%20Server%20&#20851;&#31995;&#25968;&#25454;&#24211;&#31616;&#20171;.ppt#18. 1.3   SQL Server &#24037;&#20855;&#21644;&#23454;&#29992;&#31243;&#24207;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2" Type="http://schemas.openxmlformats.org/officeDocument/2006/relationships/hyperlink" Target="file:///&#31532;2&#31456;%20%20%20Transact-SQL&#35821;&#35328;.ppt#3. 2.1  &#25968;&#25454;&#23450;&#20041;&#35821;&#35328;&#65288;DDL&#65289;" TargetMode="External"/><Relationship Id="rId3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4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5" Type="http://schemas.openxmlformats.org/officeDocument/2006/relationships/hyperlink" Target="file:///&#31532;2&#31456;%20%20%20Transact-SQL&#35821;&#35328;.ppt#7. 2.2  &#25968;&#25454;&#25805;&#32437;&#35821;&#35328;&#65288;DML&#65289;" TargetMode="External"/><Relationship Id="rId6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7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8" Type="http://schemas.openxmlformats.org/officeDocument/2006/relationships/hyperlink" Target="file:///&#31532;2&#31456;%20%20%20Transact-SQL&#35821;&#35328;.ppt#20. 2.3  &#25968;&#25454;&#25511;&#21046;&#35821;&#35328;&#65288;DCL&#65289;" TargetMode="External"/><Relationship Id="rId9" Type="http://schemas.openxmlformats.org/officeDocument/2006/relationships/hyperlink" Target="file:///&#31532;2&#31456;%20%20%20Transact-SQL&#35821;&#35328;.ppt#27. 2.4  &#31995;&#32479;&#23384;&#20648;&#36807;&#31243;" TargetMode="External"/><Relationship Id="rId10" Type="http://schemas.openxmlformats.org/officeDocument/2006/relationships/hyperlink" Target="file:///&#31532;2&#31456;%20%20%20Transact-SQL&#35821;&#35328;.ppt#27. 2.4  &#31995;&#32479;&#23384;&#20648;&#36807;&#31243;" TargetMode="External"/><Relationship Id="rId11" Type="http://schemas.openxmlformats.org/officeDocument/2006/relationships/hyperlink" Target="file:///&#31532;2&#31456;%20%20%20Transact-SQL&#35821;&#35328;.ppt#30. 2.5  &#20854;&#23427;&#35821;&#35328;&#20803;&#32032;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1532;3&#31456;%20%20%20&#26381;&#21153;&#22120;&#31649;&#29702;.ppt#2. 3.1   &#21019;&#24314;&#26381;&#21153;&#22120;&#32452;" TargetMode="External"/><Relationship Id="rId2" Type="http://schemas.openxmlformats.org/officeDocument/2006/relationships/hyperlink" Target="file:///&#31532;3&#31456;%20%20%20&#26381;&#21153;&#22120;&#31649;&#29702;.ppt#2. 3.1   &#21019;&#24314;&#26381;&#21153;&#22120;&#32452;" TargetMode="External"/><Relationship Id="rId3" Type="http://schemas.openxmlformats.org/officeDocument/2006/relationships/hyperlink" Target="file:///&#31532;3&#31456;%20%20%20&#26381;&#21153;&#22120;&#31649;&#29702;.ppt#5. 3.2   &#26381;&#21153;&#22120;&#27880;&#20876;" TargetMode="External"/><Relationship Id="rId4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5" Type="http://schemas.openxmlformats.org/officeDocument/2006/relationships/hyperlink" Target="file:///&#31532;3&#31456;%20%20%20&#26381;&#21153;&#22120;&#31649;&#29702;.ppt#17. 3.3   &#26381;&#21153;&#22120;&#21551;&#21160;&#12289;&#26242;&#20572;&#21644;&#20572;&#27490;" TargetMode="External"/><Relationship Id="rId6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7" Type="http://schemas.openxmlformats.org/officeDocument/2006/relationships/hyperlink" Target="file:///&#31532;3&#31456;%20%20%20&#26381;&#21153;&#22120;&#31649;&#29702;.ppt#19. 3.4   &#26381;&#21153;&#22120;&#36830;&#25509;&#19982;&#26029;&#24320;" TargetMode="External"/><Relationship Id="rId8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9" Type="http://schemas.openxmlformats.org/officeDocument/2006/relationships/hyperlink" Target="file:///&#31532;3&#31456;%20%20%20&#26381;&#21153;&#22120;&#31649;&#29702;.ppt#21. 3.5   &#26381;&#21153;&#22120;&#37197;&#32622;&#36873;&#39033;&#35774;&#32622;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4&#31456;%20%20%20&#25968;&#25454;&#24211;&#31649;&#29702;.ppt#2. 4.1   &#25968;&#25454;&#24211;&#30340;&#23384;&#20648;&#32467;&#26500;" TargetMode="External"/><Relationship Id="rId2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3" Type="http://schemas.openxmlformats.org/officeDocument/2006/relationships/hyperlink" Target="file:///&#31532;4&#31456;%20%20%20&#25968;&#25454;&#24211;&#31649;&#29702;.ppt#6. 4.2   &#21019;&#24314;&#12289;&#20462;&#25913;&#21644;&#21024;&#38500;&#25968;&#25454;&#24211;" TargetMode="External"/><Relationship Id="rId4" Type="http://schemas.openxmlformats.org/officeDocument/2006/relationships/hyperlink" Target="file:///&#31532;4&#31456;%20%20%20&#25968;&#25454;&#24211;&#31649;&#29702;.ppt#34. 4.3   &#25968;&#25454;&#24211;&#22791;&#20221;" TargetMode="External"/><Relationship Id="rId5" Type="http://schemas.openxmlformats.org/officeDocument/2006/relationships/hyperlink" Target="file:///&#31532;4&#31456;%20%20%20&#25968;&#25454;&#24211;&#31649;&#29702;.ppt#53. 4.4   &#24674;&#22797;&#25968;&#25454;&#24211;" TargetMode="External"/><Relationship Id="rId6" Type="http://schemas.openxmlformats.org/officeDocument/2006/relationships/hyperlink" Target="file:///&#31532;4&#31456;%20%20%20&#25968;&#25454;&#24211;&#31649;&#29702;.ppt#53. 4.4   &#24674;&#22797;&#25968;&#25454;&#24211;" TargetMode="External"/><Relationship Id="rId7" Type="http://schemas.openxmlformats.org/officeDocument/2006/relationships/hyperlink" Target="file:///&#31532;4&#31456;%20%20%20&#25968;&#25454;&#24211;&#31649;&#29702;.ppt#59. 4.5   &#25968;&#25454;&#24211;&#30340;&#32500;&#25252;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31532;5&#31456;%20%20%20%20&#25968;&#25454;&#24211;&#23545;&#35937;&#30340;&#25805;&#20316;.ppt#2. 5.1   &#25968;&#25454;&#31867;&#22411;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31532;5&#31456;%20%20%20%20&#25968;&#25454;&#24211;&#23545;&#35937;&#30340;&#25805;&#20316;.ppt#5. 2. &#28014;&#28857;&#25968;&#25454;&#31867;&#22411;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31532;5&#31456;%20%20%20%20&#25968;&#25454;&#24211;&#23545;&#35937;&#30340;&#25805;&#20316;.ppt#45. 5.3   &#35270;&#22270;&#25805;&#20316;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31532;5&#31456;%20%20%20%20&#25968;&#25454;&#24211;&#23545;&#35937;&#30340;&#25805;&#20316;.ppt#82. 5.4   &#32034;&#24341;&#25805;&#20316;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31532;5&#31456;%20%20%20%20&#25968;&#25454;&#24211;&#23545;&#35937;&#30340;&#25805;&#20316;.ppt#116. 5.5   &#23384;&#20648;&#36807;&#31243;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31532;5&#31456;%20%20%20%20&#25968;&#25454;&#24211;&#23545;&#35937;&#30340;&#25805;&#20316;.ppt#145. 5.6   &#35302;&#21457;&#22120;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&#31532;5&#31456;%20%20%20%20&#25968;&#25454;&#24211;&#23545;&#35937;&#30340;&#25805;&#20316;.ppt#164. 5.7    &#22270;    &#34920;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2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3" Type="http://schemas.openxmlformats.org/officeDocument/2006/relationships/hyperlink" Target="file:///&#31532;6&#31456;%20%20%20SQL%20Server&#26435;&#38480;&#31649;&#29702;.ppt#2. 6.1   SQL Server&#26435;&#38480;&#31649;&#29702;&#31574;&#30053;" TargetMode="External"/><Relationship Id="rId4" Type="http://schemas.openxmlformats.org/officeDocument/2006/relationships/hyperlink" Target="file:///&#31532;6&#31456;%20%20%20SQL%20Server&#26435;&#38480;&#31649;&#29702;.ppt#8. 6.2   &#29992;&#25143;&#26435;&#38480;&#31649;&#29702;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2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3" Type="http://schemas.openxmlformats.org/officeDocument/2006/relationships/hyperlink" Target="file:///&#31532;7&#31456;%20%20%20SQL%20Server&#20195;&#29702;&#26381;&#21153;.ppt#3. 7.1   SQL Server&#20195;&#29702;&#26381;&#21153;&#37197;&#32622;" TargetMode="External"/><Relationship Id="rId4" Type="http://schemas.openxmlformats.org/officeDocument/2006/relationships/hyperlink" Target="file:///&#31532;7&#31456;%20%20%20SQL%20Server&#20195;&#29702;&#26381;&#21153;.ppt#9.  7.2   &#23450;&#20041;&#25805;&#20316;&#21592;" TargetMode="External"/><Relationship Id="rId5" Type="http://schemas.openxmlformats.org/officeDocument/2006/relationships/hyperlink" Target="file:///&#31532;7&#31456;%20%20%20SQL%20Server&#20195;&#29702;&#26381;&#21153;.ppt#11. 7.3   &#20316;&#19994;&#31649;&#29702;" TargetMode="External"/><Relationship Id="rId6" Type="http://schemas.openxmlformats.org/officeDocument/2006/relationships/hyperlink" Target="file:///&#31532;7&#31456;%20%20%20SQL%20Server&#20195;&#29702;&#26381;&#21153;.ppt#25. 7.4   &#35686;&#25253;&#31649;&#29702;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76520" y="1752480"/>
            <a:ext cx="6340320" cy="36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56002b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9c004e"/>
                </a:solidFill>
                <a:uFillTx/>
                <a:latin typeface="Arial"/>
                <a:ea typeface="华文隶书"/>
                <a:hlinkClick r:id="rId1"/>
              </a:rPr>
              <a:t>简明教程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6002b"/>
                </a:solidFill>
                <a:latin typeface="Times New Roman"/>
              </a:rPr>
              <a:t>李存斌  主编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20120" y="480060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8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复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33720" y="18288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8.1   复制概述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2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配置服务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3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创建发布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4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订购出版物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5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管理复制选项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8.6   </a:t>
            </a:r>
            <a:r>
              <a:rPr b="1" lang="zh-CN" sz="2800" spc="-1" strike="noStrike">
                <a:solidFill>
                  <a:srgbClr val="56002b"/>
                </a:solidFill>
                <a:latin typeface="Times New Roman"/>
              </a:rPr>
              <a:t>复制代理程序和监视器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9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数据转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1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数据的导入和导出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9.2   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  <a:ea typeface="Times New Roman"/>
              </a:rPr>
              <a:t>DTS</a:t>
            </a:r>
            <a:r>
              <a:rPr b="1" lang="zh-CN" sz="3000" spc="-1" strike="noStrike">
                <a:solidFill>
                  <a:srgbClr val="56002b"/>
                </a:solidFill>
                <a:latin typeface="Times New Roman"/>
              </a:rPr>
              <a:t>设计器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0440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4038480" cy="2593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590920"/>
            <a:ext cx="222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20011"/>
                </a:solidFill>
                <a:latin typeface="Times New Roman"/>
                <a:ea typeface="华文新魏"/>
              </a:rPr>
              <a:t>欢迎您使用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SQL Server 2000</a:t>
            </a:r>
            <a:r>
              <a:rPr b="1" lang="zh-CN" sz="2800" spc="-1" strike="noStrike">
                <a:solidFill>
                  <a:srgbClr val="220011"/>
                </a:solidFill>
                <a:latin typeface="隶书"/>
                <a:ea typeface="隶书"/>
              </a:rPr>
              <a:t>数据库简明教程演示文稿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前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一、本教材电子教案（演示文稿）采用 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PowerPoint 2000</a:t>
            </a: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制作，用户可根据教学需求随意修改，使用非常方便。</a:t>
            </a:r>
            <a:endParaRPr b="1" lang="en-US" sz="24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124080"/>
            <a:ext cx="784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二、本电子教案以鲜艳的色彩，明亮的格调为主旋律，加上不同风格的动画，新颖别致的界面，给人一种朝气蓬勃、耳目一新的感觉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648320"/>
            <a:ext cx="7086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20417"/>
                </a:solidFill>
                <a:latin typeface="华文新魏"/>
                <a:ea typeface="华文新魏"/>
              </a:rPr>
              <a:t>三、本电子教案由华北电力大学（北京）工商管理学院教授李存斌指导，李武教师制作完成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543800" y="4876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57150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章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关系数据库简介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219672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1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特点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1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的安装和配置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1.3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SQL Server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工具和实用程序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Transact-SQL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语言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2.1  数据定义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DD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2.2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数据操纵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DM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2.3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数据控制语言（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DCL）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9"/>
              </a:rPr>
              <a:t>2.4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系统存储过程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1"/>
              </a:rPr>
              <a:t>2.5  其它语言元素 </a:t>
            </a:r>
            <a:br>
              <a:rPr sz="2800"/>
            </a:b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章   服务器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89280" y="2249280"/>
            <a:ext cx="55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1"/>
              </a:rPr>
              <a:t>3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创建服务器组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3.2   服务器注册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4"/>
              </a:rPr>
              <a:t>3.3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服务器启动、暂停和停止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3.4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7"/>
              </a:rPr>
              <a:t>服务器连接与断开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8"/>
              </a:rPr>
              <a:t>3.5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9"/>
              </a:rPr>
              <a:t>服务器配置选项设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4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数据库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4.1   数据库的存储结构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2"/>
              </a:rPr>
              <a:t>4.2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3"/>
              </a:rPr>
              <a:t>创建、修改和删除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4.3   数据库备份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5"/>
              </a:rPr>
              <a:t>4.4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ea typeface="Times New Roman"/>
                <a:hlinkClick r:id="rId6"/>
              </a:rPr>
              <a:t>恢复数据库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Times New Roman"/>
                <a:hlinkClick r:id="rId7"/>
              </a:rPr>
              <a:t>4.5   数据库的维护 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5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 数据库对象的操作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7524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5.1   数据类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5.2   表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6"/>
              </a:rPr>
              <a:t>5.3   视图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8"/>
              </a:rPr>
              <a:t>5.4   索引操作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0"/>
              </a:rPr>
              <a:t>5.5   存储过程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2"/>
              </a:rPr>
              <a:t>5.6   触发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>
              <a:spcBef>
                <a:spcPts val="751"/>
              </a:spcBef>
              <a:buSzPct val="10289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Times New Roman"/>
                <a:hlinkClick r:id="rId14"/>
              </a:rPr>
              <a:t>5.7    图    表 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ffcc"/>
                </a:solidFill>
                <a:latin typeface="隶书"/>
              </a:rPr>
              <a:t>权限管理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6.1   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权限管理策略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6.2   用户权限管理</a:t>
            </a: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7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SQL Server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代理服务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040" y="2133360"/>
            <a:ext cx="5715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1"/>
              </a:rPr>
              <a:t>7.1   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2"/>
              </a:rPr>
              <a:t>SQL Server</a:t>
            </a: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3"/>
              </a:rPr>
              <a:t>代理服务配置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4"/>
              </a:rPr>
              <a:t>7.2   定义操作员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5"/>
              </a:rPr>
              <a:t>7.3   作业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9c004e"/>
                </a:solidFill>
                <a:uFillTx/>
                <a:latin typeface="隶书"/>
                <a:hlinkClick r:id="rId6"/>
              </a:rPr>
              <a:t>7.4   警报管理</a:t>
            </a: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6002b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848720" y="3809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934320" y="49528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54864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ebcf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3:14:35Z</dcterms:created>
  <dc:creator>haier</dc:creator>
  <dc:description/>
  <dc:language>en-US</dc:language>
  <cp:lastModifiedBy>lcb</cp:lastModifiedBy>
  <dcterms:modified xsi:type="dcterms:W3CDTF">2001-08-19T07:23:25Z</dcterms:modified>
  <cp:revision>30</cp:revision>
  <dc:subject/>
  <dc:title>PowerPoint 演示文稿</dc:title>
</cp:coreProperties>
</file>